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20089"/>
        <c:axId val="48211296"/>
      </c:barChart>
      <c:catAx>
        <c:axId val="72620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11296"/>
        <c:crosses val="autoZero"/>
        <c:auto val="1"/>
        <c:lblAlgn val="ctr"/>
        <c:lblOffset val="100"/>
        <c:noMultiLvlLbl val="0"/>
      </c:catAx>
      <c:valAx>
        <c:axId val="48211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20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57D-B483-4E04-BB58-BFE3A45E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4F3-F673-4D90-BA51-13DE120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C5C-29FF-4C61-A2BE-EC815AC9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882-4DD2-4457-9BAA-C9C71D82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820-F072-4774-B727-13B361DD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E9D-C084-4A35-9822-251C7CE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000-FF9F-46BB-BF8C-ECD6328B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D9A-C107-434A-AA6B-582009A9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5EA-066F-4458-9424-1C0FFAA7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B7F-18F8-41E3-BD24-0F31CE4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962-AA0C-4341-95FB-1A3519F0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801-1C0F-4756-9988-ABD21C50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A2639-B81B-43C5-8B65-F21033AC69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