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4356"/>
        <c:axId val="56731781"/>
      </c:barChart>
      <c:catAx>
        <c:axId val="81043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31781"/>
        <c:crosses val="autoZero"/>
        <c:auto val="1"/>
        <c:lblAlgn val="ctr"/>
        <c:lblOffset val="100"/>
        <c:noMultiLvlLbl val="0"/>
      </c:catAx>
      <c:valAx>
        <c:axId val="56731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43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C71A-210E-4F37-964E-3221EF0B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4022-AA2A-4603-B330-A1F26027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2F2-2E3A-4DC9-A751-880509E4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D3C-F7D4-4CBB-B631-C2491A0D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2E6-D390-4AC9-98E4-7E67828B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3D4-B690-4AE5-9480-5E392C58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EFF-9418-4158-8419-40293CD2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733C-DE5E-4F2E-B2DA-54E75579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A62-932C-42C3-9012-DA3B26F5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7AF1-5610-465D-B1C3-D0065E3F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22E1-93FC-4508-81EA-7EE84F97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0D5-8C80-410D-B086-81C0943D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DFC62-56B1-4201-B8D9-8725356F0F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