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65666"/>
        <c:axId val="62413039"/>
      </c:barChart>
      <c:catAx>
        <c:axId val="95165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13039"/>
        <c:crosses val="autoZero"/>
        <c:auto val="1"/>
        <c:lblAlgn val="ctr"/>
        <c:lblOffset val="100"/>
        <c:noMultiLvlLbl val="0"/>
      </c:catAx>
      <c:valAx>
        <c:axId val="62413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65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8BC-C2FE-4570-B973-78068BE4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408-97BF-49B9-BC74-D335FA18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8A29-0498-4E25-A59E-89E8C92A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6536-468A-4D3B-A320-473EA9CC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F8D-0793-4FCA-8EA0-D15CD161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0F5-5D74-428E-8CA7-FF452504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2ECA-915D-4800-8AE5-33C94A09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0B2-BCC0-4991-B2B1-7CF202D0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830-16B7-4E16-AAEC-32316C41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5CB-4BF3-4E68-8C13-E5D9007B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B93-D568-442E-A5A0-156B9722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3E5-CC1E-4C7E-AD6A-33BCBC8E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FA8B3-BE52-449E-BF69-C109C5DD7D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