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11926"/>
        <c:axId val="91566159"/>
      </c:barChart>
      <c:catAx>
        <c:axId val="97011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66159"/>
        <c:crosses val="autoZero"/>
        <c:auto val="1"/>
        <c:lblAlgn val="ctr"/>
        <c:lblOffset val="100"/>
        <c:noMultiLvlLbl val="0"/>
      </c:catAx>
      <c:valAx>
        <c:axId val="91566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11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181-E5F1-418A-BA54-F7D0BD30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88C-394D-4254-86B8-B5A1DB87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A37-FF1B-4305-B1B0-2101E9DD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907-AB38-45D6-A802-3B480B1D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11F-2F9B-43E0-ABB0-52063A32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2CD-5EA7-4428-A8C1-3603AD6B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E05-248A-491A-B154-0E90D0EF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720-081A-4C45-85C2-F2D53E83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09F-7166-43EF-841C-0654B5D9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FBF-A0BF-49B3-9D68-5E639E39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380-E20B-46F5-A809-73C45049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3B4-5713-4866-AE6E-8AEB33BE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BC9D3-A103-4AFE-A674-BCD2F622A1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