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96604"/>
        <c:axId val="86396170"/>
      </c:barChart>
      <c:catAx>
        <c:axId val="20396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96170"/>
        <c:crosses val="autoZero"/>
        <c:auto val="1"/>
        <c:lblAlgn val="ctr"/>
        <c:lblOffset val="100"/>
        <c:noMultiLvlLbl val="0"/>
      </c:catAx>
      <c:valAx>
        <c:axId val="86396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6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58B-BF1C-4820-897E-2783F07C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107-FECF-4C9B-A309-269DA63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EE9-3321-4BB2-8B82-55196E54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68B-27CD-4C6A-A78A-E884EBD7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A57-9265-4DA5-9BCA-DCB2F244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635-FF69-4C46-A9FD-A9E4B3C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D50-E498-44D9-BB98-69B8BEC3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547-5EDD-4766-BB73-2CBACF1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E5E-C642-4D0C-911A-4074E386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076-F5DB-4E05-BBE6-06AD8F0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428-FD1E-4D55-B59C-DD82EAB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E18-2BEF-48F3-B1D0-331FA6B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9AC33-1D41-4BEC-BA04-3B48B66C4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