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44331"/>
        <c:axId val="72028293"/>
      </c:barChart>
      <c:catAx>
        <c:axId val="58244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028293"/>
        <c:crosses val="autoZero"/>
        <c:auto val="1"/>
        <c:lblAlgn val="ctr"/>
        <c:lblOffset val="100"/>
        <c:noMultiLvlLbl val="0"/>
      </c:catAx>
      <c:valAx>
        <c:axId val="72028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44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EC81-0D55-41D8-8689-41F88549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12C1-6353-41E0-9C7B-0F9C7A9F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ED8-82BA-48A3-AE02-60E6D5F4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D5C8-010C-458A-9BC3-F90AC9D0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6E8A-6453-4149-9004-B0BCC98E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CF2-63DB-4862-898D-2ADB6CD2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02A-8C43-463A-B6E3-ACA56A71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35F-9FB9-489F-B766-9311EC4E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9A8-8928-4EAC-8188-692B9EB7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123-DEEB-45B3-BB49-C06E380E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DFBD-EC50-40A0-82C6-75970218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ED69-946A-4345-8060-C9621B63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CF6CE-BF0E-4151-A778-191551F414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