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50357"/>
        <c:axId val="51185339"/>
      </c:barChart>
      <c:catAx>
        <c:axId val="48250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85339"/>
        <c:crosses val="autoZero"/>
        <c:auto val="1"/>
        <c:lblAlgn val="ctr"/>
        <c:lblOffset val="100"/>
        <c:noMultiLvlLbl val="0"/>
      </c:catAx>
      <c:valAx>
        <c:axId val="51185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50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C76-D516-4919-8513-D4F39D3D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F2E-E6AC-4897-9518-8E23A2B1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464-5ADA-413D-831F-C6BE0BA4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5B2-4728-40CC-906A-153F5143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712-CDF1-40E3-A879-9B06ED75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9A3-2F72-44CD-8397-2D790BBF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4D1-C06C-429E-8C82-C6EA9DC5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98F-19BE-4CB5-9F13-18AEC512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1F0-E856-4DB8-A35A-EBBDB62D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DD5-E142-4723-BBE6-F5C7F035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541-5064-460F-A6F4-0A81395A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B24-E0A2-4657-AB18-25B95AD7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366DA-8DDF-4EC3-A0C0-43EA2ECA72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