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69601"/>
        <c:axId val="40842299"/>
      </c:barChart>
      <c:catAx>
        <c:axId val="48769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42299"/>
        <c:crosses val="autoZero"/>
        <c:auto val="1"/>
        <c:lblAlgn val="ctr"/>
        <c:lblOffset val="100"/>
        <c:noMultiLvlLbl val="0"/>
      </c:catAx>
      <c:valAx>
        <c:axId val="40842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9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889-018F-43E3-8D2D-4B092F3B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CF5-C4F4-4B35-A081-69BB8AF4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20D-5453-4B78-B825-9C247860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6A0-39BE-4C98-8A37-1BFC7985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469-0548-44F5-A88B-C631B69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4AB-E8B1-47C8-A5A6-3F4ADE40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7DE-0D82-4118-B1D7-CAC619A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32F-032F-4FCC-A75B-ADA48CB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92C-21CE-4C74-AAA4-833928D1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6C1-1928-4081-A024-6A1B0D2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CE9-54D8-4608-ADC3-B3707F1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CCD-F308-4CD8-B9C6-BA33E57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6725-002F-4CDE-A053-9D02F57A5B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