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60263"/>
        <c:axId val="70287175"/>
      </c:barChart>
      <c:catAx>
        <c:axId val="681602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87175"/>
        <c:crosses val="autoZero"/>
        <c:auto val="1"/>
        <c:lblAlgn val="ctr"/>
        <c:lblOffset val="100"/>
        <c:noMultiLvlLbl val="0"/>
      </c:catAx>
      <c:valAx>
        <c:axId val="70287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602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3BF-65BC-4759-9D72-6E48D082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5616-31AE-4094-A833-2D80FC71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4DB0-0D6C-4861-AD99-8DA98470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ED7C-C35E-4FF2-B2D2-467FF732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BA5-6B3F-4A17-82E1-EC8DDFE6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1D7-E264-43E5-A189-6B1E0F05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4FA4-47B6-47E3-809B-0CBD2023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F1E-6354-47FC-99C7-93E3178A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1B22-06E8-4A9A-9A5E-DA25962F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39A-99BC-4D44-9BA5-EF2669FA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B93-4757-4E6F-99D7-17533AA6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4C8-3E77-4AF4-AB23-D56E7BE3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623DE-B8AC-4946-93D0-C82687B959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