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92194"/>
        <c:axId val="32357921"/>
      </c:barChart>
      <c:catAx>
        <c:axId val="817921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57921"/>
        <c:crosses val="autoZero"/>
        <c:auto val="1"/>
        <c:lblAlgn val="ctr"/>
        <c:lblOffset val="100"/>
        <c:noMultiLvlLbl val="0"/>
      </c:catAx>
      <c:valAx>
        <c:axId val="323579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921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EC7-B628-4A01-AC4C-9C9EA3D1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231-D03F-457B-BD4C-5FF993C2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B0A-CAA3-4A80-A77D-3E7A6454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781-601B-4982-A54F-3F54B700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3A3-D90A-4BDA-8431-C0CDD32D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F86-ED2C-4E8F-B69C-4A56B5D2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9ADC-910E-4D27-ABED-38B53ECC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50CA-59BE-465A-AEFA-2C9CA269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8E7-DFEE-458B-A6CC-24C2424B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78B-EBD8-4191-ADD0-28DEF7D1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4D2-BFF7-49D0-940A-2FF6ABE7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7530-9871-4AEB-BD04-6A37FF90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B8D31-9784-4DC0-ADF3-91B07DE9CF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